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A0F-2281-4111-8399-02C02B42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C3CD-5333-487F-B844-CCB13D6C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02C-CEEF-4612-8D5F-C50C308A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5BA-3F05-4B70-B03D-7FF841F9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E09-AA4C-4896-BCB6-AE3BA6BD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44C-D225-45CC-B02B-39676A84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1DC-D402-476C-B849-07549A20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98FF-7923-4F77-ADF9-ECE6C471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824-CB5C-4441-8114-AFB5147F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59EB-0383-4C0E-8C5D-7C2D8DED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2E3-E516-4D82-B2CD-19DA8162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73F-1511-435C-ACC5-B6487680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33B4-F043-4228-AFC6-83156123E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50states.com/connecticu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bensguide.gpo.gov/3-5/state/connecticut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postcardsfrom.com/stamp/stamp-ct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postcardsfrom.com/stamp/stamp-ct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50080" y="5667480"/>
            <a:ext cx="31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September 20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472428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4572000"/>
            <a:ext cx="3657600" cy="19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3880" y="66135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7724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29400" y="0"/>
            <a:ext cx="25146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tates, Connecticut Song, 7-Oct-10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50states.com/connecti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520" y="1066680"/>
            <a:ext cx="80769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necticut</a:t>
            </a:r>
            <a:endParaRPr b="0" lang="en-US" sz="1800" spc="1" strike="noStrike">
              <a:ln w="1260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Name: Connecti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: Hart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3,405,5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ed the Union: 1/9/17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: he who transplatened still sus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: Constitution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2908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24480" y="29718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91040" cy="3660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40200" y="0"/>
            <a:ext cx="4303800" cy="4903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3962520"/>
            <a:ext cx="3657600" cy="2714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5880" y="5105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from cli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: Mountain Lau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: American Ro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: Yankee Doo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the name: From the native American word “quinnehtukqut”, meaning “besides the long tidal river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3048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29400" y="297180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Connecticut: Map and State Flag"/>
          <p:cNvPicPr/>
          <p:nvPr/>
        </p:nvPicPr>
        <p:blipFill>
          <a:blip r:embed="rId1"/>
          <a:srcRect l="5557" t="45250" r="0" b="0"/>
          <a:stretch/>
        </p:blipFill>
        <p:spPr>
          <a:xfrm>
            <a:off x="4572000" y="3429000"/>
            <a:ext cx="4267080" cy="2847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2120" y="4429080"/>
            <a:ext cx="32763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Quick facts Connecticut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2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ensguide.gpo.gov/3-5/state/connecticu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4572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Copyright © 1997 WriteLine. All Rights Reserved. Connecticut flag"/>
          <p:cNvPicPr/>
          <p:nvPr/>
        </p:nvPicPr>
        <p:blipFill>
          <a:blip r:embed="rId3"/>
          <a:stretch/>
        </p:blipFill>
        <p:spPr>
          <a:xfrm>
            <a:off x="2209680" y="228600"/>
            <a:ext cx="4496040" cy="3016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162920" y="5335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Copyright © 1997 WriteLine. All Rights Reserved. Mountain Laurel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686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676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1219320"/>
            <a:ext cx="2438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 from Connecticu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necticut state Stamp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3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stamp/stamp-c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91120"/>
            <a:ext cx="2438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State flower of Connectic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0" y="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28800" y="53341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41008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pital of Connecticut is gorgeous in so many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12193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 from Connecticu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necticut postcard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3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stamp/stamp-c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07:10Z</dcterms:created>
  <dc:creator>install</dc:creator>
  <dc:description/>
  <dc:language>en-US</dc:language>
  <cp:lastModifiedBy>install</cp:lastModifiedBy>
  <dcterms:modified xsi:type="dcterms:W3CDTF">2010-10-14T13:19:54Z</dcterms:modified>
  <cp:revision>14</cp:revision>
  <dc:subject/>
  <dc:title>Slide 1</dc:title>
</cp:coreProperties>
</file>